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C2B1-07A2-4393-9B23-2F42BF1F67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1910-1D6F-4A62-831C-9C16DEFCD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need to be supplied with the mass of the astronaut and then they must work out the weight of the astronaut on different plan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 need formula – weight = mass x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l physicists will have a problem as some of the planets you couldn’t strictly land on as they are g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’m only an amateur being a biologist…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842D-CC8F-4C66-A8A5-CF29581F73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CD42-950D-44D0-B30C-EE2655B971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4B12-F928-40E7-831F-FAD83A25C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D480-6795-474D-A1A3-8BD4CE7AB9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6D77-DAD3-4D89-86E3-B93532631B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5851-0A20-4E99-9C59-D1E45F4C56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5DD2-7EFC-4B69-A6DE-B0BA2F11F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6C42-922F-4D88-86A9-5B20508FA5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62E4-8D24-4FDB-9109-3C39472DA1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093-A8E9-44F6-A147-9A6289EE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88C-54D8-46AB-9D32-BBC458BA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93D-032E-4120-A017-C340A0D5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A33-75B4-43A3-AFAE-252DA3BA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D72-9A3A-4C69-A0B6-B1F597EB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24C-9655-47D3-ABE4-4A65013D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5B1-F3B2-4C90-ABFC-61838A45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50FD-AB72-4651-8495-827A1185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3C3-CCBE-44B1-A4A1-4E78555C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AB4-F0CC-4CCF-A285-11408008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A69-B869-4A1A-BB6A-5818D55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335-8DC3-4DF1-8420-A18EFD24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BF21-0E74-4A2C-9857-F57E6B7337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2NUF29lg"/>
          <p:cNvPicPr/>
          <p:nvPr/>
        </p:nvPicPr>
        <p:blipFill>
          <a:blip r:embed="rId1"/>
          <a:stretch/>
        </p:blipFill>
        <p:spPr>
          <a:xfrm>
            <a:off x="205092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2NUF29lg"/>
          <p:cNvPicPr/>
          <p:nvPr/>
        </p:nvPicPr>
        <p:blipFill>
          <a:blip r:embed="rId2"/>
          <a:stretch/>
        </p:blipFill>
        <p:spPr>
          <a:xfrm>
            <a:off x="37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02NUF29lg"/>
          <p:cNvPicPr/>
          <p:nvPr/>
        </p:nvPicPr>
        <p:blipFill>
          <a:blip r:embed="rId3"/>
          <a:stretch/>
        </p:blipFill>
        <p:spPr>
          <a:xfrm>
            <a:off x="0" y="2205000"/>
            <a:ext cx="1758960" cy="22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02NUF29lg"/>
          <p:cNvPicPr/>
          <p:nvPr/>
        </p:nvPicPr>
        <p:blipFill>
          <a:blip r:embed="rId4"/>
          <a:stretch/>
        </p:blipFill>
        <p:spPr>
          <a:xfrm>
            <a:off x="73850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02NUF29lg"/>
          <p:cNvPicPr/>
          <p:nvPr/>
        </p:nvPicPr>
        <p:blipFill>
          <a:blip r:embed="rId5"/>
          <a:stretch/>
        </p:blipFill>
        <p:spPr>
          <a:xfrm>
            <a:off x="5364000" y="4437000"/>
            <a:ext cx="2087640" cy="242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02NUF29lg"/>
          <p:cNvPicPr/>
          <p:nvPr/>
        </p:nvPicPr>
        <p:blipFill>
          <a:blip r:embed="rId6"/>
          <a:stretch/>
        </p:blipFill>
        <p:spPr>
          <a:xfrm>
            <a:off x="3492360" y="4437000"/>
            <a:ext cx="1901880" cy="24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2NUF29lg"/>
          <p:cNvPicPr/>
          <p:nvPr/>
        </p:nvPicPr>
        <p:blipFill>
          <a:blip r:embed="rId7"/>
          <a:stretch/>
        </p:blipFill>
        <p:spPr>
          <a:xfrm>
            <a:off x="17636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02NUF29lg"/>
          <p:cNvPicPr/>
          <p:nvPr/>
        </p:nvPicPr>
        <p:blipFill>
          <a:blip r:embed="rId8"/>
          <a:stretch/>
        </p:blipFill>
        <p:spPr>
          <a:xfrm>
            <a:off x="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2NUF29lg"/>
          <p:cNvPicPr/>
          <p:nvPr/>
        </p:nvPicPr>
        <p:blipFill>
          <a:blip r:embed="rId9"/>
          <a:stretch/>
        </p:blipFill>
        <p:spPr>
          <a:xfrm>
            <a:off x="55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02NUF29lg"/>
          <p:cNvPicPr/>
          <p:nvPr/>
        </p:nvPicPr>
        <p:blipFill>
          <a:blip r:embed="rId10"/>
          <a:stretch/>
        </p:blipFill>
        <p:spPr>
          <a:xfrm>
            <a:off x="7385040" y="2133720"/>
            <a:ext cx="1758960" cy="242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02NUF29lg"/>
          <p:cNvPicPr/>
          <p:nvPr/>
        </p:nvPicPr>
        <p:blipFill>
          <a:blip r:embed="rId11"/>
          <a:stretch/>
        </p:blipFill>
        <p:spPr>
          <a:xfrm>
            <a:off x="5435640" y="2060640"/>
            <a:ext cx="201600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02NUF29lg"/>
          <p:cNvPicPr/>
          <p:nvPr/>
        </p:nvPicPr>
        <p:blipFill>
          <a:blip r:embed="rId12"/>
          <a:stretch/>
        </p:blipFill>
        <p:spPr>
          <a:xfrm>
            <a:off x="3492360" y="1989000"/>
            <a:ext cx="201636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02NUF29lg"/>
          <p:cNvPicPr/>
          <p:nvPr/>
        </p:nvPicPr>
        <p:blipFill>
          <a:blip r:embed="rId13"/>
          <a:stretch/>
        </p:blipFill>
        <p:spPr>
          <a:xfrm>
            <a:off x="1763640" y="1989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2NUF29lg"/>
          <p:cNvPicPr/>
          <p:nvPr/>
        </p:nvPicPr>
        <p:blipFill>
          <a:blip r:embed="rId14"/>
          <a:stretch/>
        </p:blipFill>
        <p:spPr>
          <a:xfrm>
            <a:off x="738504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02NUF29lg"/>
          <p:cNvPicPr/>
          <p:nvPr/>
        </p:nvPicPr>
        <p:blipFill>
          <a:blip r:embed="rId15"/>
          <a:stretch/>
        </p:blipFill>
        <p:spPr>
          <a:xfrm>
            <a:off x="0" y="-17136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20"/>
          <p:cNvSpPr txBox="1"/>
          <p:nvPr/>
        </p:nvSpPr>
        <p:spPr>
          <a:xfrm>
            <a:off x="395280" y="1844640"/>
            <a:ext cx="8209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lanet hopp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pluto"/>
          <p:cNvPicPr/>
          <p:nvPr/>
        </p:nvPicPr>
        <p:blipFill>
          <a:blip r:embed="rId1"/>
          <a:stretch/>
        </p:blipFill>
        <p:spPr>
          <a:xfrm>
            <a:off x="4067280" y="3429000"/>
            <a:ext cx="1038240" cy="103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Cj00827790000[1]"/>
          <p:cNvPicPr/>
          <p:nvPr/>
        </p:nvPicPr>
        <p:blipFill>
          <a:blip r:embed="rId2"/>
          <a:stretch/>
        </p:blipFill>
        <p:spPr>
          <a:xfrm flipH="1">
            <a:off x="4427640" y="2637000"/>
            <a:ext cx="444240" cy="8492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/>
          <p:cNvSpPr/>
          <p:nvPr/>
        </p:nvSpPr>
        <p:spPr>
          <a:xfrm flipH="1">
            <a:off x="178560" y="836640"/>
            <a:ext cx="2521080" cy="3168720"/>
          </a:xfrm>
          <a:prstGeom prst="wedgeRectCallout">
            <a:avLst>
              <a:gd name="adj1" fmla="val -118893"/>
              <a:gd name="adj2" fmla="val 9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lut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incy wincy and freezing cold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0.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1628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39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4.16667E-006 -3.55309E-006 L -0.72569 0.01481 E">
                                      <p:cBhvr>
                                        <p:cTn id="348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2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569 0.01481 L -1.59201 -0.02082 E">
                                      <p:cBhvr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MCj00827790000[1]"/>
          <p:cNvPicPr/>
          <p:nvPr/>
        </p:nvPicPr>
        <p:blipFill>
          <a:blip r:embed="rId1"/>
          <a:stretch/>
        </p:blipFill>
        <p:spPr>
          <a:xfrm>
            <a:off x="4211640" y="692280"/>
            <a:ext cx="749160" cy="143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ercury2"/>
          <p:cNvPicPr/>
          <p:nvPr/>
        </p:nvPicPr>
        <p:blipFill>
          <a:blip r:embed="rId2"/>
          <a:stretch/>
        </p:blipFill>
        <p:spPr>
          <a:xfrm>
            <a:off x="3780000" y="206064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6"/>
          <p:cNvSpPr/>
          <p:nvPr/>
        </p:nvSpPr>
        <p:spPr>
          <a:xfrm>
            <a:off x="539640" y="1052640"/>
            <a:ext cx="3095640" cy="4752720"/>
          </a:xfrm>
          <a:prstGeom prst="wedgeRectCallout">
            <a:avLst>
              <a:gd name="adj1" fmla="val 74564"/>
              <a:gd name="adj2" fmla="val -54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rst stop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ercur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(eek, really hot here so won’t stick around too long)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1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0"/>
            <a:ext cx="2284200" cy="409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16563E-007 L 0.00122 -0.9276 E">
                                      <p:cBhvr>
                                        <p:cTn id="17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8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KVenusSurface__praesepe"/>
          <p:cNvPicPr/>
          <p:nvPr/>
        </p:nvPicPr>
        <p:blipFill>
          <a:blip r:embed="rId1"/>
          <a:stretch/>
        </p:blipFill>
        <p:spPr>
          <a:xfrm>
            <a:off x="1547640" y="1844640"/>
            <a:ext cx="5916960" cy="4732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907920"/>
            <a:ext cx="749160" cy="1433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/>
          <p:cNvSpPr/>
          <p:nvPr/>
        </p:nvSpPr>
        <p:spPr>
          <a:xfrm>
            <a:off x="179280" y="981000"/>
            <a:ext cx="2448000" cy="4896000"/>
          </a:xfrm>
          <a:prstGeom prst="wedgeRectCallout">
            <a:avLst>
              <a:gd name="adj1" fmla="val 121337"/>
              <a:gd name="adj2" fmla="val -46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to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planet of luuurrrve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bit like Earth)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MCBD05713_0000[1]"/>
          <p:cNvPicPr/>
          <p:nvPr/>
        </p:nvPicPr>
        <p:blipFill>
          <a:blip r:embed="rId3"/>
          <a:stretch/>
        </p:blipFill>
        <p:spPr>
          <a:xfrm rot="1530600">
            <a:off x="3564000" y="33336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55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64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78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EarthAS17"/>
          <p:cNvPicPr/>
          <p:nvPr/>
        </p:nvPicPr>
        <p:blipFill>
          <a:blip r:embed="rId1"/>
          <a:stretch/>
        </p:blipFill>
        <p:spPr>
          <a:xfrm>
            <a:off x="2268360" y="2349360"/>
            <a:ext cx="4410360" cy="377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MCj00827790000[1]"/>
          <p:cNvPicPr/>
          <p:nvPr/>
        </p:nvPicPr>
        <p:blipFill>
          <a:blip r:embed="rId2"/>
          <a:stretch/>
        </p:blipFill>
        <p:spPr>
          <a:xfrm>
            <a:off x="3995640" y="620640"/>
            <a:ext cx="971640" cy="18576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7"/>
          <p:cNvSpPr/>
          <p:nvPr/>
        </p:nvSpPr>
        <p:spPr>
          <a:xfrm>
            <a:off x="108000" y="981000"/>
            <a:ext cx="3095640" cy="3095640"/>
          </a:xfrm>
          <a:prstGeom prst="wedgeRectCallout">
            <a:avLst>
              <a:gd name="adj1" fmla="val 87078"/>
              <a:gd name="adj2" fmla="val -51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 home o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ar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it’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0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By the way St. Peter’s is about 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2843280" y="321300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MCBD05713_0000[1]"/>
          <p:cNvPicPr/>
          <p:nvPr/>
        </p:nvPicPr>
        <p:blipFill>
          <a:blip r:embed="rId3"/>
          <a:stretch/>
        </p:blipFill>
        <p:spPr>
          <a:xfrm rot="1530600">
            <a:off x="370800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95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09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26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Cj00827790000[1]"/>
          <p:cNvPicPr/>
          <p:nvPr/>
        </p:nvPicPr>
        <p:blipFill>
          <a:blip r:embed="rId1"/>
          <a:stretch/>
        </p:blipFill>
        <p:spPr>
          <a:xfrm>
            <a:off x="4284720" y="692280"/>
            <a:ext cx="97164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79280" y="981000"/>
            <a:ext cx="3024360" cy="2735280"/>
          </a:xfrm>
          <a:prstGeom prst="wedgeRectCallout">
            <a:avLst>
              <a:gd name="adj1" fmla="val 95986"/>
              <a:gd name="adj2" fmla="val -48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there might be other life??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ars"/>
          <p:cNvPicPr/>
          <p:nvPr/>
        </p:nvPicPr>
        <p:blipFill>
          <a:blip r:embed="rId2"/>
          <a:stretch/>
        </p:blipFill>
        <p:spPr>
          <a:xfrm>
            <a:off x="3780000" y="2492280"/>
            <a:ext cx="2044440" cy="2065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s_200_12319"/>
          <p:cNvPicPr/>
          <p:nvPr/>
        </p:nvPicPr>
        <p:blipFill>
          <a:blip r:embed="rId3"/>
          <a:stretch/>
        </p:blipFill>
        <p:spPr>
          <a:xfrm>
            <a:off x="-1905120" y="566100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MCBD05713_0000[1]"/>
          <p:cNvPicPr/>
          <p:nvPr/>
        </p:nvPicPr>
        <p:blipFill>
          <a:blip r:embed="rId4"/>
          <a:stretch/>
        </p:blipFill>
        <p:spPr>
          <a:xfrm rot="1530600">
            <a:off x="3708360" y="-242640"/>
            <a:ext cx="2249640" cy="4029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MCBD05713_0000[1]"/>
          <p:cNvPicPr/>
          <p:nvPr/>
        </p:nvPicPr>
        <p:blipFill>
          <a:blip r:embed="rId5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43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73976E-006 C 0.00347 -0.04511 0.00712 -0.08998 0.0217 -0.09785 C 0.03629 -0.10571 0.07257 -0.04025 0.08802 -0.04649 C 0.10347 -0.05274 0.09653 -0.12491 0.11441 -0.13486 C 0.13212 -0.1448 0.1783 -0.09345 0.19514 -0.10594 C 0.21181 -0.11843 0.20313 -0.20657 0.21563 -0.21027 C 0.22795 -0.21397 0.25174 -0.12052 0.26979 -0.12838 C 0.28768 -0.13625 0.30052 -0.24497 0.32396 -0.25676 C 0.34757 -0.26856 0.3934 -0.18968 0.41077 -0.19893 C 0.42813 -0.20819 0.41962 -0.30233 0.42882 -0.31297 C 0.43785 -0.32362 0.45313 -0.27388 0.46615 -0.26324 C 0.47934 -0.2526 0.49549 -0.23132 0.50729 -0.2489 C 0.51893 -0.26648 0.5125 -0.35669 0.53715 -0.36919 C 0.56181 -0.38168 0.63472 -0.31853 0.65521 -0.32431 C 0.67587 -0.33009 0.64792 -0.3907 0.66007 -0.40458 C 0.6724 -0.41846 0.71684 -0.39903 0.72882 -0.40782 C 0.74063 -0.41661 0.73021 -0.44691 0.73125 -0.45755 C 0.73212 -0.46819 0.70052 -0.47744 0.7349 -0.47189 C 0.76927 -0.46634 0.90695 -0.40666 0.93733 -0.42378 C 0.96771 -0.4409 0.90695 -0.55563 0.91667 -0.5746 C 0.92639 -0.59357 0.98594 -0.52718 0.99514 -0.53782 C 1.00434 -0.54846 0.94479 -0.62387 0.97205 -0.63891 C 0.99948 -0.65394 1.13559 -0.61554 1.16024 -0.62757 C 1.18472 -0.6396 1.11597 -0.70529 1.1191 -0.71108 C 1.12222 -0.71686 1.16788 -0.65834 1.17934 -0.66296 C 1.19097 -0.66759 1.17622 -0.73167 1.18785 -0.73837 C 1.19983 -0.74508 1.24254 -0.69627 1.25052 -0.70321 C 1.25851 -0.71015 1.23438 -0.77192 1.23594 -0.78024 C 1.23768 -0.78857 1.25799 -0.7622 1.26024 -0.75295 C 1.26215 -0.74369 1.25504 -0.73398 1.24809 -0.72403 E">
                                      <p:cBhvr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56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7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jupiter_full"/>
          <p:cNvPicPr/>
          <p:nvPr/>
        </p:nvPicPr>
        <p:blipFill>
          <a:blip r:embed="rId1"/>
          <a:stretch/>
        </p:blipFill>
        <p:spPr>
          <a:xfrm>
            <a:off x="1692360" y="1125360"/>
            <a:ext cx="5918040" cy="5918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Cj00827790000[1]"/>
          <p:cNvPicPr/>
          <p:nvPr/>
        </p:nvPicPr>
        <p:blipFill>
          <a:blip r:embed="rId2"/>
          <a:stretch/>
        </p:blipFill>
        <p:spPr>
          <a:xfrm>
            <a:off x="4427640" y="189000"/>
            <a:ext cx="707760" cy="1352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/>
          <p:cNvSpPr/>
          <p:nvPr/>
        </p:nvSpPr>
        <p:spPr>
          <a:xfrm>
            <a:off x="108000" y="716040"/>
            <a:ext cx="2951280" cy="3360600"/>
          </a:xfrm>
          <a:prstGeom prst="wedgeRectCallout">
            <a:avLst>
              <a:gd name="adj1" fmla="val 103898"/>
              <a:gd name="adj2" fmla="val -584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Jupi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biggest planet, with a whopping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-242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87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947 L -0.74028 -0.2799 E">
                                      <p:cBhvr>
                                        <p:cTn id="196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7 -0.2799 L -1.60659 -0.31552 E">
                                      <p:cBhvr>
                                        <p:cTn id="208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moons"/>
          <p:cNvPicPr/>
          <p:nvPr/>
        </p:nvPicPr>
        <p:blipFill>
          <a:blip r:embed="rId1"/>
          <a:stretch/>
        </p:blipFill>
        <p:spPr>
          <a:xfrm rot="20019600">
            <a:off x="2211480" y="1149120"/>
            <a:ext cx="4159080" cy="534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765000"/>
            <a:ext cx="844560" cy="1857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250920" y="289080"/>
            <a:ext cx="2628720" cy="2735280"/>
          </a:xfrm>
          <a:prstGeom prst="wedgeRectCallout">
            <a:avLst>
              <a:gd name="adj1" fmla="val 95833"/>
              <a:gd name="adj2" fmla="val -22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atur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 the one with the rings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25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34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46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nset-uranus"/>
          <p:cNvPicPr/>
          <p:nvPr/>
        </p:nvPicPr>
        <p:blipFill>
          <a:blip r:embed="rId1"/>
          <a:stretch/>
        </p:blipFill>
        <p:spPr>
          <a:xfrm>
            <a:off x="2627280" y="1989000"/>
            <a:ext cx="3764160" cy="4181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179280" y="981000"/>
            <a:ext cx="2268720" cy="4680000"/>
          </a:xfrm>
          <a:prstGeom prst="wedgeRectCallout">
            <a:avLst>
              <a:gd name="adj1" fmla="val 121379"/>
              <a:gd name="adj2" fmla="val -48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Ura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people think it’s a rude planet but it’s only biology….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8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780000" y="0"/>
            <a:ext cx="1831680" cy="328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63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72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84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Neptune-spot"/>
          <p:cNvPicPr/>
          <p:nvPr/>
        </p:nvPicPr>
        <p:blipFill>
          <a:blip r:embed="rId1"/>
          <a:stretch/>
        </p:blipFill>
        <p:spPr>
          <a:xfrm>
            <a:off x="2556000" y="2133720"/>
            <a:ext cx="3987720" cy="398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108000" y="716040"/>
            <a:ext cx="2975040" cy="1992240"/>
          </a:xfrm>
          <a:prstGeom prst="wedgeRectCallout">
            <a:avLst>
              <a:gd name="adj1" fmla="val 86712"/>
              <a:gd name="adj2" fmla="val -47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ptune, with a gravity of 11N/kg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635280" y="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01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310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22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0:02:51Z</dcterms:created>
  <dc:creator>matis</dc:creator>
  <dc:description/>
  <dc:language>en-US</dc:language>
  <cp:lastModifiedBy>RomaK</cp:lastModifiedBy>
  <dcterms:modified xsi:type="dcterms:W3CDTF">2015-07-31T22:55:29Z</dcterms:modified>
  <cp:revision>10</cp:revision>
  <dc:subject/>
  <dc:title>Slide 1</dc:title>
</cp:coreProperties>
</file>